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3FA-176B-4269-9D3A-F06EC38E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022-8F1A-4C48-84BA-8012BA11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01554-EFE0-4AC2-9727-D04966DE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C30D2-1D30-4B91-B180-E067D8C3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11F5C-30E4-41F2-AAD6-DDA61682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1B0E4-2509-4E26-BFA1-7309C8AD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353E3-B949-4137-98C6-E2C5D6BE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B6DBE-3946-4056-B727-F300C11B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8C849-4AC3-4F80-B2BF-425CAF9E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AE7A9-A431-4F81-9BCD-9B01059D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3DB22-ACD5-4588-B6FB-E92FAEBC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4F978-437D-4F1A-AC27-DD224A5D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7D4-FB1F-46A3-BC19-820D5669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ABAC5-21A6-4737-86EE-9CB40797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09704-6004-4225-97B5-C974B74C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7C1AF-2A4D-438B-94A9-975588F4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C97D2-D679-491A-9FED-07A5B71C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9A933-8DD3-45E9-943A-856A9B1C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6A233-ABF7-467A-9AAE-C24AF418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7A973-1002-427F-B349-E5CE84F3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C2195-CE7C-4C82-9A0C-5501AAD9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6429D-A1AB-4B0E-BC40-8C461DFF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08D7D-EF83-4EC3-90ED-FC282783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905-9C8C-4A80-ABE7-F4C59253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B4A7B-BFA0-4EA7-858B-04914D69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5C42B-E359-43F7-AF3B-BFCD8970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F9BD2-A8A0-4258-9193-64FBE3F8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7C522-A1EB-4F73-852A-ED378EE5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7FAFB-580E-47EE-A465-31515904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2DED7-9A11-4B8A-BB58-C79ABBBA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A1957-1181-4CE7-962C-3974C82D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3A5D3-26B6-4DA6-BF79-EB3468D0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01022-A58D-4CC7-9DF6-4400205B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4ABC3-D98E-49A8-B8AF-AF87C79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619A-E22F-4CAE-9BFF-B90B381E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EEA54-AF7C-4043-82F2-43BCC821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AA78C-C3DB-40CE-82A5-405778B9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B13C7-0067-4D6F-BC18-7CDE8BFE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B6C65-A8B0-4CF0-8F10-2DA3910B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BC2B3-1C48-4D15-A82D-07F77E6D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56ECF-8D05-4E66-BF3D-3E6F208F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51C66-5D41-4D89-9535-141262FF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76D73-6C71-4FD3-8C19-89AFD341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E3EC3-9267-4175-9D7A-7BC6585C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36655-E5B1-4D5A-8910-5992B146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F630-8B81-453B-9B3E-3D4D05C8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57E6F-B913-4C9F-9386-054B068B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1C9A4-5A9E-4B67-927D-CD822410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4C5A7-DAF4-4507-8B15-DA3270DE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B2BC7-765E-4DA9-AB76-E0D415FA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E5A51-A70E-4F4F-812D-282FAF7A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58AFB-6EEE-41F2-8D9F-A46CE0BA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CF015-01C0-4BCD-B4D7-F193258C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DC68F-9E75-4761-AF56-C0B38E59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C7543-09E4-4AC0-BA95-47625C32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6867F-1064-441F-94A0-18084397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D296-40DC-458E-801C-E3A11A65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595AB-558A-4748-BC78-918155BB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B555C-E6F5-4A5C-8FA7-C2DB6C91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68523-C6C8-4637-A80D-A77F7DA7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08D2C-956C-42F5-A085-83B657EF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1A862-0288-4E7E-9359-DA91740B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A5676-F3B2-4B5E-B9DA-AB5F5217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7A653-3D11-4732-B7F8-8EA16009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BF9DC-501A-4107-8603-3E7D1434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2E951-8E20-4011-A61B-79513D44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C15B2-A2C1-45D5-81DE-D2230B98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B139-9822-403F-954A-A37765D5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5F530-DDBB-4C66-AFE6-93B0AB64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8DCAC-C807-4CAC-AFCC-59583FF8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FD7CC-9A23-41FA-92D3-83A842DA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D547F-F456-427E-AA67-8C2D2268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303B6-A212-40A0-92A5-33C39E0F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830B0-8A09-4C3A-9702-4126181F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667D7-1BAB-48FF-9A8D-8A80B01D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53D04-E855-4368-8CE6-9FD32568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03A29-B28C-4657-A5B3-A7154509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E159B-7BAD-450E-AF7B-8C0CC046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CBCF-BB4E-47E6-B371-0A191C45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AB6A5-2446-450C-A336-6FD1AABE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EBE7A-DD8B-4B65-BF1E-9EDD82CE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4CE193-A592-46F3-9382-A71E7E66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BC4F2-3F82-4FBE-9487-5EB3611B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767CE-4E0C-4B5A-92A9-C2A36907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B353B5-5669-45B1-995E-042A9DD5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C51E4-797F-4909-BAAE-D42C82E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91565-9E68-4FAB-9CB8-337E6861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07DE2E-978A-4DA5-AA68-0C9BD1BF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F95AA-B022-4E4F-8B73-B8A989D2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0C30-C458-48DF-8634-38AAFD96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B26A8B-8BCA-4D49-A783-B256DB3C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95E2E2-F0B7-47C3-8857-1AE7CA0F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0FC331-C214-491F-A8D7-4CBE129E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4658D9-C4C3-437E-955C-8CC24F6C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47BF6-E65C-44C6-B86D-56F8DC3B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FF2D1-369B-4226-811C-EF311AB2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DD6BB-4384-44E0-B0CA-CC175D57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6056B9-4C2E-41D1-986B-4A35329C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DAB6E-8177-4E3C-9450-4E2755E8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57B88-F726-4DAF-B009-3819577F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2D50-4DBD-410E-BF82-FEDC7106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6B718-A6AC-4D79-961D-E775AE00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29937-6F8E-41B5-8FC2-E8B18B91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2D1C84-09A5-424A-9052-B9627FF9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04C0A2-6714-4E3A-8545-ED9D4606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2D960C-BC77-40AD-A5C1-CFAF2076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5ABDB-2B96-41EE-86D5-0993660C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E53840-B6F8-47E7-B905-1168CB18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8EAA95-EA4F-4497-8629-332A45C0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ED238-1287-49B5-88D2-6D308F47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47D72-0451-4B10-BBC4-8D52DCE7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6C1-7723-4D06-93D5-64CBAB36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75A0-8CB4-452D-AE6B-3CBADED0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AD9D90-39B8-4B89-A412-F60AD6FC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77201B-9128-49A7-8B4D-80111972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43958-EBE4-4453-8329-DFA57020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6AA7D7-EF32-418F-B24D-2F706796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92B67-C5E0-4F1C-91A4-89533714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76D6D-3639-4619-B52A-84B3C819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3C6C20-AFD5-4696-8FE7-6B46F731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1C9C5A-5119-406B-8A8D-23782356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12EDD8-A847-412A-B780-60A902EE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EB98A2-C1CC-4D82-B4EB-58022543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DCE8-3667-4869-A3C1-361A7C88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66254-C7CB-4041-8934-3D9DE669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8E3663-C78C-4712-8878-72F84D2E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E80A40-99C9-41DF-8CDC-7165EF56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8F726-407A-4EC6-A84E-8B91D86F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1663EC-956B-4704-9BCD-071F9251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D8290-871C-47ED-9157-03F134B2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364887-EB56-4B62-B0AE-D32AEA6B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7E39C-DC7A-4C81-84BB-C77F8E57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C4E2F4-579F-4503-A52A-90D8C273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A84A67-AF7A-46D9-972E-EC025001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D2A5-509C-45E6-B75B-8E831F08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C0C51A-37C8-4F2B-B235-F5AE57F1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2E9BE0-33F0-41EE-89B1-04099C04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21D78-FCD7-4033-A568-7ED3B977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FA6D22-95A9-4075-8151-5A03137F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7D1D8B-502D-44D6-89FF-E24B6722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B5D914-5554-48BF-AB3B-7D9E385C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29657-B441-42D3-86A9-CE12CD1E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5413CA-FEBA-4504-812E-52C091F8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0C0332-0CB8-4BBD-B2FC-E913A770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F25C2-C6F6-4F55-9824-A94346D7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37D0-8B13-460B-A127-E5D27350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152824-BB8F-42EC-BF80-EE739253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79D4CE-9835-42F1-BE83-23AE6472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C5F43-FED6-42B4-88C5-DA7C6250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A4AA48-7F0E-44F0-86E8-3FAF3454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29D897-69F8-4C80-88CD-D786C9E2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C15BEF-2D13-42A3-BAFE-ED8F2C63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E8EAF3-A16B-4282-B11F-C03BCA83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ECF76E-8A9D-4FDD-8A17-A6453E13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43799E-7779-4237-BFCB-5B895035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8E24E6-B09D-4ED5-B311-2997BB11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08CC-87C2-4C2E-B891-79D2A831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86D7D-3959-440C-A4AB-47811198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096E65-D63A-4A2C-8A1B-B486B212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348BA2-2AF4-4F16-8223-4CCFB620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2FED3C-7DAC-479B-8B70-0D62DB33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E8AD24-D4C1-424B-93C0-903CD89B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9E76F9-AA63-4552-9A71-209D6A74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328910-1B56-4DBF-8CC4-3ECC21A3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17E88-77EF-4F0F-89F4-A4B4D80B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03EC2D-DA67-4D98-AA45-82635605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549B69-068B-4590-BBAE-3340EC0F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73F0-500B-4373-BF99-7844CD48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7ADF6D-234E-4FD1-BBA6-C119C1D0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85404A-218B-4186-B6CD-6E648945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94C593-10B1-4DBA-8862-F798F5B9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DF87-9952-4F7C-BBC2-3392A0EC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F4E08-09D8-490D-ABBE-DF1F3722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A406-C015-4330-B045-E0F8391C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1893-D42E-4531-B3B4-8F302571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9C0-D5F0-4036-9F8A-22E3F64A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7FA53-736C-4914-A33B-1C779B14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EA56-83C4-4730-98AA-2103A6ED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B9BC-92B6-4F88-BC48-A0ADAFA9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D3DFA-E3B9-4F66-ACD8-653E847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A7C1-DF01-4B92-B881-040C85FA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B20A-869A-446E-93ED-51759019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FECC-9719-4470-9DB2-ED15B856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DCA9-BE4A-4E41-A98B-6C4454FC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80FE9-702B-4F70-8A52-F55C9F37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A8E5-333F-4279-9A9D-70DDED16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F27-7C38-4406-840D-C3E2B753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8BEDE-87ED-4616-B7C6-2A43C1D9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69950-B23F-44CD-A936-ADB537B3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B9973-8AFA-4823-9E7B-570942F9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21C7F-CCDE-4A31-869C-4518A5A5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AD9A9-2C7D-45E0-AA5D-26CE17A5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378B6-A9FE-46A5-915D-F23F1716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69BE2-3930-440A-A786-1F87CDF9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DFC5-C72D-4A54-BF7F-08CC582C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3C1D-ED92-4CBB-B188-40A11B0B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05283-B488-4D1E-B558-85AB3C7A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DF3-E3E8-4088-A06C-B539170B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25903-829B-4DBD-94CF-6B4F0254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6F3F2-DDD8-4614-8B0C-EC3F1E13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1D463-6A08-4E6B-A581-66738F94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5FD76-33DE-4608-9407-09263F91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C3F3B-489A-4A01-85AC-CE1CC842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5A33D-FFA1-43E6-A2AC-700CC1D3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F64CE-0B0F-49FA-90CB-34AFE9B7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BD49D-5937-4C51-9FAE-F233094F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BEE8F-4FED-4AE0-8C2C-0286810C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47BDE-F1AE-4310-9664-8E5F2229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483-2062-4161-ADFB-6DE342D5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A24C7-C603-449D-9054-85966CEF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52CEF-6940-4054-A838-7E9C258F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A7C25-3AFE-46B0-B3FC-A782B733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DF5F1-35D8-40C2-AB3F-164E448C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0BDAE-D03A-42B4-A87F-A6BE1AC7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8DDB7-07FC-414A-8078-417C3CA5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45BE3-DF46-4BD3-824C-5572D3D0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ACECD-7BC6-4587-B4B9-FE1CC77F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DB09D-E1D2-4107-A0F7-D985E7A8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F4449-9C4E-4F55-8F80-992C2819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13E-5319-486E-8467-BD770FB5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78F1E-383D-4956-9D51-4CF2E289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3880B-024A-440A-8390-F94548EC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6D9CC-C96F-470F-97A0-246C7500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996AE-A15A-43C8-AED1-3A877B82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102DC-5D65-48F0-AFC7-2320A1DD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97D04-0D5D-44C7-84CA-B3084DD1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4D6D0-6391-40ED-8593-F53CBDDF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DFE89-1F91-4455-9098-ABC2B707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24762-BC6F-45D4-A01D-80E5B3A8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E0092-BCF5-4323-839B-0811D624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3E6-0EFA-4F15-A0E5-E678907C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A9218-DF55-4DAA-B2C1-9356D211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AD611-0B20-4F71-96A7-8917861E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C6CC3-807C-4353-9D1E-C7DB391D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57AF-75F5-4E98-9EAB-FDBE5C5F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7FE4C-346A-4E8B-B494-586565A6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141B6-6F51-47EA-A753-B31EA0B2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83AEF-FC23-475C-A164-9CF0F8B9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B1092-1D77-4B7D-B0C3-78DD8422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70394-C009-475D-A100-F17CD9AF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D02F6-9C72-402B-AB74-67548DF0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75F-FF83-4AD0-9700-F29415A7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3800C-1009-499D-B997-64746AAA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D0667-B367-46C8-9832-4F547675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A2D59-96AB-40A5-BDCB-8DE1216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49834-357A-4B38-8AED-27B7E7F2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387C6-0CF9-42B0-A145-3B8E9BEF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22D97-C9B0-4FFA-A982-E25D9A07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678D0-F6DA-489B-A7E7-3B1B4E40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AB4F8-2300-438C-A6F6-341CE1E9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32C22-1333-44C7-B213-CD2C9CBA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B0E37-53AF-4B49-90B0-853C5D98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914F-9DCF-446D-B4D5-D567C1594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007A-1AE9-408D-9F7F-286D11910D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E20C-45A1-4D38-92D6-B610A45CC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0B0A-0B1B-41C7-8112-B066E5D5DB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C7A1-895A-41D0-A279-9947ACEB9A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1DB4-C402-42EF-96C0-94D3CF67BA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8F4C-0061-435B-BB8D-F339E448D2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1277-1DFC-475B-B4B5-487ABF17FD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6A7C-219B-4AA8-A78B-3055B2E8B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10C1-BA63-4E3A-9A70-1C73BF07A2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8324-D816-4689-BD6F-3F50794533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7845-78A9-425A-AC6E-01B0FC58B7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8593-829A-4C7B-9940-874B5AB784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1967-DDFB-4998-9A05-0F8B5171C6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5F13-50D4-4D92-B9F1-DDDF9116CF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33DF-203C-4757-8695-78C80FD571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FC3F-3922-41A4-A8AF-9FA7FAE340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F9E0-CEE5-4222-8575-84C0BB844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8E1A-EEE2-422A-95C3-F0C0FA28DE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9D0D-4586-472E-9DB6-EEA9EFC5E7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53D5-5C1B-48B7-A8C6-7D6023AE9A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D566-1B6D-4B0E-851D-46A4A78E5E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0897-8335-4975-853A-F75FA5CD51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7D65-5211-4EFD-B1CF-2E2F58023F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74A7-2463-4730-95F3-F098125E2B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39CB-02B7-463F-A758-64FD62C52A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925B-4C0B-4669-89AB-675BDE1C52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E014-300C-4AAA-969A-7F3AB0654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0868-07E1-4847-86E1-F480BB4EF5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92B6-65E0-464F-844A-B3C1E47499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B5FC-B127-4ABC-9A32-CA28413C01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922F-19ED-47BF-8486-5C3FF49C50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A445-A324-4781-B06A-BDF3C16061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6EC3-825B-4061-A9AA-496D1F0CD3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8F00-7655-4188-9320-8E56242E1F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EBC2-8806-43DF-8401-2634DF2317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E59C-EC67-46FE-B0D0-1BE2B34277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7177-94B0-4F7C-B2A4-563A76BAFD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6137-350A-46A3-AF59-F9C44DA785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2D70-4B98-41F0-9AA1-A1D8EA24DE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76320" y="2557440"/>
            <a:ext cx="8991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9" name="图片 1" descr=""/>
          <p:cNvPicPr/>
          <p:nvPr/>
        </p:nvPicPr>
        <p:blipFill>
          <a:blip r:embed="rId1"/>
          <a:stretch/>
        </p:blipFill>
        <p:spPr>
          <a:xfrm>
            <a:off x="738360" y="882720"/>
            <a:ext cx="7665840" cy="53719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3"/>
          <a:stretch/>
        </p:blipFill>
        <p:spPr>
          <a:xfrm>
            <a:off x="147636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4"/>
          <a:stretch/>
        </p:blipFill>
        <p:spPr>
          <a:xfrm>
            <a:off x="1461960" y="429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5"/>
          <a:stretch/>
        </p:blipFill>
        <p:spPr>
          <a:xfrm>
            <a:off x="1403280" y="55609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6" name="图片 1" descr=""/>
          <p:cNvPicPr/>
          <p:nvPr/>
        </p:nvPicPr>
        <p:blipFill>
          <a:blip r:embed="rId1"/>
          <a:stretch/>
        </p:blipFill>
        <p:spPr>
          <a:xfrm>
            <a:off x="1933560" y="2857680"/>
            <a:ext cx="5276880" cy="11430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2"/>
          <a:stretch/>
        </p:blipFill>
        <p:spPr>
          <a:xfrm>
            <a:off x="2195640" y="32702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0" name="图片 1" descr=""/>
          <p:cNvPicPr/>
          <p:nvPr/>
        </p:nvPicPr>
        <p:blipFill>
          <a:blip r:embed="rId1"/>
          <a:stretch/>
        </p:blipFill>
        <p:spPr>
          <a:xfrm>
            <a:off x="1214280" y="739800"/>
            <a:ext cx="6715440" cy="59151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2"/>
          <a:stretch/>
        </p:blipFill>
        <p:spPr>
          <a:xfrm>
            <a:off x="3059280" y="378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3059280" y="4753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4"/>
          <a:stretch/>
        </p:blipFill>
        <p:spPr>
          <a:xfrm>
            <a:off x="4859280" y="5257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5"/>
          <a:stretch/>
        </p:blipFill>
        <p:spPr>
          <a:xfrm>
            <a:off x="6227640" y="57484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6"/>
          <a:stretch/>
        </p:blipFill>
        <p:spPr>
          <a:xfrm>
            <a:off x="3708360" y="62514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95400" y="1023840"/>
            <a:ext cx="8953200" cy="48103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755640" y="35290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75564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755640" y="4522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755640" y="5027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755640" y="5516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417840" y="993600"/>
            <a:ext cx="2551320" cy="6480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500040" y="2066760"/>
            <a:ext cx="8142480" cy="2724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1600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160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1600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116000" y="43941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66680" y="2057400"/>
            <a:ext cx="8809200" cy="27432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258920" y="4365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2987640" y="4365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4702320" y="4365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6372360" y="43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8086680" y="43797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76040" y="1886040"/>
            <a:ext cx="8790120" cy="174312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2" descr=""/>
          <p:cNvPicPr/>
          <p:nvPr/>
        </p:nvPicPr>
        <p:blipFill>
          <a:blip r:embed="rId2"/>
          <a:stretch/>
        </p:blipFill>
        <p:spPr>
          <a:xfrm>
            <a:off x="628560" y="3728880"/>
            <a:ext cx="6591240" cy="885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826920" y="23781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826920" y="2809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82692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825480" y="3730680"/>
            <a:ext cx="361800" cy="320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871560" y="4249800"/>
            <a:ext cx="3618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623880" y="1409760"/>
            <a:ext cx="7894800" cy="4038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1403280" y="2938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1403280" y="3457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1332000" y="4005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1346040" y="4451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1332000" y="49989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243000" y="1700280"/>
            <a:ext cx="8656560" cy="34574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900000" y="23050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900000" y="2867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95724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90000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6"/>
          <a:stretch/>
        </p:blipFill>
        <p:spPr>
          <a:xfrm>
            <a:off x="900000" y="47242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185760" y="1919160"/>
            <a:ext cx="8771040" cy="301968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9218" descr=""/>
          <p:cNvPicPr/>
          <p:nvPr/>
        </p:nvPicPr>
        <p:blipFill>
          <a:blip r:embed="rId2"/>
          <a:stretch/>
        </p:blipFill>
        <p:spPr>
          <a:xfrm>
            <a:off x="973080" y="4437000"/>
            <a:ext cx="1295280" cy="44460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9219" descr=""/>
          <p:cNvPicPr/>
          <p:nvPr/>
        </p:nvPicPr>
        <p:blipFill>
          <a:blip r:embed="rId3"/>
          <a:stretch/>
        </p:blipFill>
        <p:spPr>
          <a:xfrm>
            <a:off x="2916360" y="4422600"/>
            <a:ext cx="2087280" cy="44460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9220" descr=""/>
          <p:cNvPicPr/>
          <p:nvPr/>
        </p:nvPicPr>
        <p:blipFill>
          <a:blip r:embed="rId4"/>
          <a:stretch/>
        </p:blipFill>
        <p:spPr>
          <a:xfrm>
            <a:off x="5565600" y="4437000"/>
            <a:ext cx="1382760" cy="44460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9221" descr=""/>
          <p:cNvPicPr/>
          <p:nvPr/>
        </p:nvPicPr>
        <p:blipFill>
          <a:blip r:embed="rId5"/>
          <a:stretch/>
        </p:blipFill>
        <p:spPr>
          <a:xfrm>
            <a:off x="7539120" y="4437000"/>
            <a:ext cx="1425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385920" y="1019160"/>
            <a:ext cx="8370720" cy="53323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104292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4"/>
          <a:stretch/>
        </p:blipFill>
        <p:spPr>
          <a:xfrm>
            <a:off x="1042920" y="357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5"/>
          <a:stretch/>
        </p:blipFill>
        <p:spPr>
          <a:xfrm>
            <a:off x="1042920" y="50562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4" name="图片 1" descr=""/>
          <p:cNvPicPr/>
          <p:nvPr/>
        </p:nvPicPr>
        <p:blipFill>
          <a:blip r:embed="rId1"/>
          <a:stretch/>
        </p:blipFill>
        <p:spPr>
          <a:xfrm>
            <a:off x="738360" y="2228760"/>
            <a:ext cx="7665840" cy="24004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2"/>
          <a:stretch/>
        </p:blipFill>
        <p:spPr>
          <a:xfrm>
            <a:off x="971640" y="2233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5:52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